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3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3025-587E-4887-96AF-70FE2820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303A-BCB3-40FE-945B-F2BBE814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FDDD-0FCD-4743-B615-A40B7A39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72A6-3FAF-4065-A3A6-D89331561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4D39-250B-4B21-BA93-4E5A2ECF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0E97-EE48-48E1-AD4A-303152DB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E07B-E3AB-4BF9-B452-8F7870C5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6902-7038-4A65-870B-0DBD7AE9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9BFE-D91C-4900-B8D1-CE934C13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E202-10BE-4FFA-93F8-6CB00086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C124-0285-4427-94BC-921BBC4E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CD0A-6113-4281-8452-A0C35D6F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0207-2B11-4036-BC5C-7AF0267C0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The “Cone of Experience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91520" cy="7621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Dramatized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 get closer to certain realities that are no longer available at first 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rring and attention g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ipant learns to understand intimately the character he port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es cooperativ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s: time consuming withou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nsurate resul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ipation is limited to fe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304920" y="6324480"/>
            <a:ext cx="1904760" cy="304920"/>
          </a:xfrm>
          <a:custGeom>
            <a:avLst/>
            <a:gdLst>
              <a:gd name="textAreaLeft" fmla="*/ 19440 w 1904760"/>
              <a:gd name="textAreaRight" fmla="*/ 1885320 w 1904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796" h="21600">
                <a:moveTo>
                  <a:pt x="0" y="0"/>
                </a:moveTo>
                <a:lnTo>
                  <a:pt x="134796" y="0"/>
                </a:lnTo>
                <a:lnTo>
                  <a:pt x="134796" y="21600"/>
                </a:lnTo>
                <a:lnTo>
                  <a:pt x="0" y="21600"/>
                </a:lnTo>
                <a:close/>
              </a:path>
              <a:path fill="lightenLess" w="134796" h="21600">
                <a:moveTo>
                  <a:pt x="0" y="0"/>
                </a:moveTo>
                <a:lnTo>
                  <a:pt x="134796" y="0"/>
                </a:lnTo>
                <a:lnTo>
                  <a:pt x="133396" y="1400"/>
                </a:lnTo>
                <a:lnTo>
                  <a:pt x="1400" y="1400"/>
                </a:lnTo>
                <a:close/>
              </a:path>
              <a:path fill="darken" w="134796" h="21600">
                <a:moveTo>
                  <a:pt x="134796" y="0"/>
                </a:moveTo>
                <a:lnTo>
                  <a:pt x="134796" y="21600"/>
                </a:lnTo>
                <a:lnTo>
                  <a:pt x="133396" y="20200"/>
                </a:lnTo>
                <a:lnTo>
                  <a:pt x="133396" y="1400"/>
                </a:lnTo>
                <a:close/>
              </a:path>
              <a:path fill="darkenLess" w="134796" h="21600">
                <a:moveTo>
                  <a:pt x="134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396" y="20200"/>
                </a:lnTo>
                <a:close/>
              </a:path>
              <a:path fill="lighten" w="134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Cone of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62120" y="2286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696080" y="228600"/>
            <a:ext cx="681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162920" cy="8380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ff"/>
                </a:solidFill>
                <a:latin typeface="Arial"/>
              </a:rPr>
              <a:t>Contrived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“editing” of re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titutes for confusing or unmanageable first – hand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ier to handle, manipulate or ope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ification leads to misconception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orted views, and  incompl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s of re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freedom to handle expensive or frag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s, mock – ups, specimen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304920" y="6324480"/>
            <a:ext cx="1904760" cy="304920"/>
          </a:xfrm>
          <a:custGeom>
            <a:avLst/>
            <a:gdLst>
              <a:gd name="textAreaLeft" fmla="*/ 19440 w 1904760"/>
              <a:gd name="textAreaRight" fmla="*/ 1885320 w 1904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796" h="21600">
                <a:moveTo>
                  <a:pt x="0" y="0"/>
                </a:moveTo>
                <a:lnTo>
                  <a:pt x="134796" y="0"/>
                </a:lnTo>
                <a:lnTo>
                  <a:pt x="134796" y="21600"/>
                </a:lnTo>
                <a:lnTo>
                  <a:pt x="0" y="21600"/>
                </a:lnTo>
                <a:close/>
              </a:path>
              <a:path fill="lightenLess" w="134796" h="21600">
                <a:moveTo>
                  <a:pt x="0" y="0"/>
                </a:moveTo>
                <a:lnTo>
                  <a:pt x="134796" y="0"/>
                </a:lnTo>
                <a:lnTo>
                  <a:pt x="133396" y="1400"/>
                </a:lnTo>
                <a:lnTo>
                  <a:pt x="1400" y="1400"/>
                </a:lnTo>
                <a:close/>
              </a:path>
              <a:path fill="darken" w="134796" h="21600">
                <a:moveTo>
                  <a:pt x="134796" y="0"/>
                </a:moveTo>
                <a:lnTo>
                  <a:pt x="134796" y="21600"/>
                </a:lnTo>
                <a:lnTo>
                  <a:pt x="133396" y="20200"/>
                </a:lnTo>
                <a:lnTo>
                  <a:pt x="133396" y="1400"/>
                </a:lnTo>
                <a:close/>
              </a:path>
              <a:path fill="darkenLess" w="134796" h="21600">
                <a:moveTo>
                  <a:pt x="134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396" y="20200"/>
                </a:lnTo>
                <a:close/>
              </a:path>
              <a:path fill="lighten" w="134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Cone of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2d0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Direct, Purposeful Experi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bridged version of life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 participation with responsibility for the out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asis for the most effective and lasting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ll things can be learned through direc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hand experi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324480"/>
            <a:ext cx="1904760" cy="304920"/>
          </a:xfrm>
          <a:custGeom>
            <a:avLst/>
            <a:gdLst>
              <a:gd name="textAreaLeft" fmla="*/ 19440 w 1904760"/>
              <a:gd name="textAreaRight" fmla="*/ 1885320 w 1904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796" h="21600">
                <a:moveTo>
                  <a:pt x="0" y="0"/>
                </a:moveTo>
                <a:lnTo>
                  <a:pt x="134796" y="0"/>
                </a:lnTo>
                <a:lnTo>
                  <a:pt x="134796" y="21600"/>
                </a:lnTo>
                <a:lnTo>
                  <a:pt x="0" y="21600"/>
                </a:lnTo>
                <a:close/>
              </a:path>
              <a:path fill="lightenLess" w="134796" h="21600">
                <a:moveTo>
                  <a:pt x="0" y="0"/>
                </a:moveTo>
                <a:lnTo>
                  <a:pt x="134796" y="0"/>
                </a:lnTo>
                <a:lnTo>
                  <a:pt x="133396" y="1400"/>
                </a:lnTo>
                <a:lnTo>
                  <a:pt x="1400" y="1400"/>
                </a:lnTo>
                <a:close/>
              </a:path>
              <a:path fill="darken" w="134796" h="21600">
                <a:moveTo>
                  <a:pt x="134796" y="0"/>
                </a:moveTo>
                <a:lnTo>
                  <a:pt x="134796" y="21600"/>
                </a:lnTo>
                <a:lnTo>
                  <a:pt x="133396" y="20200"/>
                </a:lnTo>
                <a:lnTo>
                  <a:pt x="133396" y="1400"/>
                </a:lnTo>
                <a:close/>
              </a:path>
              <a:path fill="darkenLess" w="134796" h="21600">
                <a:moveTo>
                  <a:pt x="134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396" y="20200"/>
                </a:lnTo>
                <a:close/>
              </a:path>
              <a:path fill="lighten" w="134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Cone of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0880" y="57240"/>
            <a:ext cx="747720" cy="154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e of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33520"/>
            <a:ext cx="5486400" cy="617220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57150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51814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4648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411480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36576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27432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2286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12193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rb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175248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66000" y="2286000"/>
            <a:ext cx="163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cordings, Radi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ill Pi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41960" y="2819520"/>
            <a:ext cx="140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tion Pi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20440" y="320040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e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7840" y="36576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hi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760" y="411480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eld Tr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16960" y="464832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mons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525780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amatized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6560" y="571500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rived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38280" y="624852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80560" y="6324480"/>
            <a:ext cx="32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rect, Purposeful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371240" y="533520"/>
            <a:ext cx="2971800" cy="594360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7765400">
            <a:off x="367560" y="298476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Degree of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4600" y="6172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53760" y="228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7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500"/>
                            </p:stCondLst>
                            <p:childTnLst>
                              <p:par>
                                <p:cTn id="47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500"/>
                            </p:stCondLst>
                            <p:childTnLst>
                              <p:par>
                                <p:cTn id="482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000"/>
                            </p:stCondLst>
                            <p:childTnLst>
                              <p:par>
                                <p:cTn id="48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3500"/>
                            </p:stCondLst>
                            <p:childTnLst>
                              <p:par>
                                <p:cTn id="490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4000"/>
                            </p:stCondLst>
                            <p:childTnLst>
                              <p:par>
                                <p:cTn id="49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4500"/>
                            </p:stCondLst>
                            <p:childTnLst>
                              <p:par>
                                <p:cTn id="49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0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0"/>
                            </p:stCondLst>
                            <p:childTnLst>
                              <p:par>
                                <p:cTn id="502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500"/>
                            </p:stCondLst>
                            <p:childTnLst>
                              <p:par>
                                <p:cTn id="50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6000"/>
                            </p:stCondLst>
                            <p:childTnLst>
                              <p:par>
                                <p:cTn id="51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500"/>
                            </p:stCondLst>
                            <p:childTnLst>
                              <p:par>
                                <p:cTn id="5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7000"/>
                            </p:stCondLst>
                            <p:childTnLst>
                              <p:par>
                                <p:cTn id="5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7500"/>
                            </p:stCondLst>
                            <p:childTnLst>
                              <p:par>
                                <p:cTn id="5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8000"/>
                            </p:stCondLst>
                            <p:childTnLst>
                              <p:par>
                                <p:cTn id="5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8500"/>
                            </p:stCondLst>
                            <p:childTnLst>
                              <p:par>
                                <p:cTn id="53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9000"/>
                            </p:stCondLst>
                            <p:childTnLst>
                              <p:par>
                                <p:cTn id="5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9500"/>
                            </p:stCondLst>
                            <p:childTnLst>
                              <p:par>
                                <p:cTn id="5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54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1500"/>
                            </p:stCondLst>
                            <p:childTnLst>
                              <p:par>
                                <p:cTn id="5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2300"/>
                            </p:stCondLst>
                            <p:childTnLst>
                              <p:par>
                                <p:cTn id="5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2460"/>
                            </p:stCondLst>
                            <p:childTnLst>
                              <p:par>
                                <p:cTn id="5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19320" y="57913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49528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240" y="1295280"/>
            <a:ext cx="4690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Cone of Experie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90920" y="228600"/>
            <a:ext cx="6324480" cy="6400800"/>
            <a:chOff x="2590920" y="228600"/>
            <a:chExt cx="6324480" cy="6400800"/>
          </a:xfrm>
        </p:grpSpPr>
        <p:sp>
          <p:nvSpPr>
            <p:cNvPr id="46" name=""/>
            <p:cNvSpPr/>
            <p:nvPr/>
          </p:nvSpPr>
          <p:spPr>
            <a:xfrm>
              <a:off x="2971800" y="5791320"/>
              <a:ext cx="396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581280" y="6019920"/>
              <a:ext cx="5029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86200" y="5410080"/>
              <a:ext cx="449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191120" y="4800600"/>
              <a:ext cx="403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419720" y="41911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724280" y="358128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52880" y="304812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181480" y="251460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10080" y="19810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638680" y="14479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8120" y="6019920"/>
              <a:ext cx="580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52680" y="5486400"/>
              <a:ext cx="5264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81280" y="4952880"/>
              <a:ext cx="4724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86200" y="4419720"/>
              <a:ext cx="419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3886200"/>
              <a:ext cx="365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720" y="3429000"/>
              <a:ext cx="3124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8320" y="297180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25800" y="6019920"/>
              <a:ext cx="580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330720" y="5486400"/>
              <a:ext cx="526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59320" y="4952880"/>
              <a:ext cx="4724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63880" y="4419720"/>
              <a:ext cx="419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68800" y="3886200"/>
              <a:ext cx="365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48120" y="6019920"/>
              <a:ext cx="580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52680" y="5486400"/>
              <a:ext cx="5264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81280" y="4952880"/>
              <a:ext cx="4724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86200" y="4419720"/>
              <a:ext cx="419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91120" y="3886200"/>
              <a:ext cx="365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90920" y="228600"/>
              <a:ext cx="6324480" cy="6400800"/>
            </a:xfrm>
            <a:prstGeom prst="triangle">
              <a:avLst>
                <a:gd name="adj" fmla="val 50000"/>
              </a:avLst>
            </a:prstGeom>
            <a:solidFill>
              <a:srgbClr val="62d0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48320" y="2514600"/>
              <a:ext cx="2209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6920" y="1981080"/>
              <a:ext cx="1752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30800" y="6095880"/>
              <a:ext cx="4872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Arial"/>
                </a:rPr>
                <a:t>Direct, Purposeful Experienc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86800" y="5562720"/>
              <a:ext cx="33523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9900ff"/>
                  </a:solidFill>
                  <a:latin typeface="Arial"/>
                </a:rPr>
                <a:t>Contrived Experience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18040" y="5029200"/>
              <a:ext cx="3409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3300"/>
                  </a:solidFill>
                  <a:latin typeface="Arial"/>
                </a:rPr>
                <a:t>Dramatized Experienc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73800" y="4495680"/>
              <a:ext cx="22093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33300"/>
                  </a:solidFill>
                  <a:latin typeface="Arial"/>
                </a:rPr>
                <a:t>Demonstration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953600" y="3962520"/>
              <a:ext cx="146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ield Trip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29200" y="3048120"/>
              <a:ext cx="13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1" action="ppaction://hlinksldjump"/>
                </a:rPr>
                <a:t>Televi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>
              <a:hlinkClick r:id="rId2" action="ppaction://hlinksldjump"/>
            </p:cNvPr>
            <p:cNvSpPr/>
            <p:nvPr/>
          </p:nvSpPr>
          <p:spPr>
            <a:xfrm>
              <a:off x="4802040" y="2590920"/>
              <a:ext cx="18021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993366"/>
                  </a:solidFill>
                  <a:latin typeface="Arial"/>
                </a:rPr>
                <a:t>Motion Pictur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00600" y="1981080"/>
              <a:ext cx="1905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ecordings, Radio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ill Pictu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>
              <a:hlinkClick r:id="rId3" action="ppaction://hlinksldjump"/>
            </p:cNvPr>
            <p:cNvSpPr/>
            <p:nvPr/>
          </p:nvSpPr>
          <p:spPr>
            <a:xfrm>
              <a:off x="5027400" y="1600200"/>
              <a:ext cx="149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Visual Symbo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>
              <a:hlinkClick r:id="rId4" action="ppaction://hlinksldjump"/>
            </p:cNvPr>
            <p:cNvSpPr/>
            <p:nvPr/>
          </p:nvSpPr>
          <p:spPr>
            <a:xfrm>
              <a:off x="5261040" y="838080"/>
              <a:ext cx="912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Verba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ymbol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05520" y="144792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68800" y="3429000"/>
              <a:ext cx="3124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397400" y="297180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>
              <a:hlinkClick r:id="rId5" action="ppaction://hlinksldjump"/>
            </p:cNvPr>
            <p:cNvSpPr/>
            <p:nvPr/>
          </p:nvSpPr>
          <p:spPr>
            <a:xfrm>
              <a:off x="5105520" y="3429000"/>
              <a:ext cx="11714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3399"/>
                  </a:solidFill>
                  <a:latin typeface="Arial"/>
                </a:rPr>
                <a:t>Exhibit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19520" y="6019920"/>
              <a:ext cx="580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24080" y="5486400"/>
              <a:ext cx="5264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352680" y="4952880"/>
              <a:ext cx="4724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57600" y="4419720"/>
              <a:ext cx="419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62520" y="3886200"/>
              <a:ext cx="365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>
            <a:hlinkClick r:id="" action="ppaction://hlinkshowjump?jump=lastslide"/>
          </p:cNvPr>
          <p:cNvSpPr/>
          <p:nvPr/>
        </p:nvSpPr>
        <p:spPr>
          <a:xfrm>
            <a:off x="152280" y="6248520"/>
            <a:ext cx="304920" cy="28080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80800"/>
              <a:gd name="textAreaBottom" fmla="*/ 262800 h 280800"/>
            </a:gdLst>
            <a:ahLst/>
            <a:rect l="textAreaLeft" t="textAreaTop" r="textAreaRight" b="textAreaBottom"/>
            <a:pathLst>
              <a:path w="23453" h="21600">
                <a:moveTo>
                  <a:pt x="0" y="0"/>
                </a:moveTo>
                <a:lnTo>
                  <a:pt x="23453" y="0"/>
                </a:lnTo>
                <a:lnTo>
                  <a:pt x="23453" y="21600"/>
                </a:lnTo>
                <a:lnTo>
                  <a:pt x="0" y="21600"/>
                </a:lnTo>
                <a:close/>
              </a:path>
              <a:path fill="lightenLess" w="23453" h="21600">
                <a:moveTo>
                  <a:pt x="0" y="0"/>
                </a:moveTo>
                <a:lnTo>
                  <a:pt x="23453" y="0"/>
                </a:lnTo>
                <a:lnTo>
                  <a:pt x="22053" y="1400"/>
                </a:lnTo>
                <a:lnTo>
                  <a:pt x="1400" y="1400"/>
                </a:lnTo>
                <a:close/>
              </a:path>
              <a:path fill="darken" w="23453" h="21600">
                <a:moveTo>
                  <a:pt x="23453" y="0"/>
                </a:moveTo>
                <a:lnTo>
                  <a:pt x="23453" y="21600"/>
                </a:lnTo>
                <a:lnTo>
                  <a:pt x="22053" y="20200"/>
                </a:lnTo>
                <a:lnTo>
                  <a:pt x="22053" y="1400"/>
                </a:lnTo>
                <a:close/>
              </a:path>
              <a:path fill="darkenLess" w="23453" h="21600">
                <a:moveTo>
                  <a:pt x="234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53" y="20200"/>
                </a:lnTo>
                <a:close/>
              </a:path>
              <a:path fill="lighten" w="234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53" h="21600">
                <a:moveTo>
                  <a:pt x="15225" y="10800"/>
                </a:moveTo>
                <a:lnTo>
                  <a:pt x="4720" y="17806"/>
                </a:lnTo>
                <a:lnTo>
                  <a:pt x="4720" y="3794"/>
                </a:lnTo>
                <a:close/>
              </a:path>
              <a:path fill="darken" w="23453" h="21600">
                <a:moveTo>
                  <a:pt x="17071" y="3794"/>
                </a:moveTo>
                <a:lnTo>
                  <a:pt x="17071" y="17806"/>
                </a:lnTo>
                <a:lnTo>
                  <a:pt x="18733" y="17806"/>
                </a:lnTo>
                <a:lnTo>
                  <a:pt x="18733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162920" cy="10666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rbal Symb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al medium of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ar no physical resemblance to the objects or ideas for which they 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a word for concretion, idea, scientific principle, formula or philosophic apho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: highly abs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304920" y="6324480"/>
            <a:ext cx="1904760" cy="304920"/>
          </a:xfrm>
          <a:custGeom>
            <a:avLst/>
            <a:gdLst>
              <a:gd name="textAreaLeft" fmla="*/ 19440 w 1904760"/>
              <a:gd name="textAreaRight" fmla="*/ 1885320 w 1904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796" h="21600">
                <a:moveTo>
                  <a:pt x="0" y="0"/>
                </a:moveTo>
                <a:lnTo>
                  <a:pt x="134796" y="0"/>
                </a:lnTo>
                <a:lnTo>
                  <a:pt x="134796" y="21600"/>
                </a:lnTo>
                <a:lnTo>
                  <a:pt x="0" y="21600"/>
                </a:lnTo>
                <a:close/>
              </a:path>
              <a:path fill="lightenLess" w="134796" h="21600">
                <a:moveTo>
                  <a:pt x="0" y="0"/>
                </a:moveTo>
                <a:lnTo>
                  <a:pt x="134796" y="0"/>
                </a:lnTo>
                <a:lnTo>
                  <a:pt x="133396" y="1400"/>
                </a:lnTo>
                <a:lnTo>
                  <a:pt x="1400" y="1400"/>
                </a:lnTo>
                <a:close/>
              </a:path>
              <a:path fill="darken" w="134796" h="21600">
                <a:moveTo>
                  <a:pt x="134796" y="0"/>
                </a:moveTo>
                <a:lnTo>
                  <a:pt x="134796" y="21600"/>
                </a:lnTo>
                <a:lnTo>
                  <a:pt x="133396" y="20200"/>
                </a:lnTo>
                <a:lnTo>
                  <a:pt x="133396" y="1400"/>
                </a:lnTo>
                <a:close/>
              </a:path>
              <a:path fill="darkenLess" w="134796" h="21600">
                <a:moveTo>
                  <a:pt x="134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396" y="20200"/>
                </a:lnTo>
                <a:close/>
              </a:path>
              <a:path fill="lighten" w="134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Cone of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781200" cy="618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705720" y="38088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7621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Visual Symb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kboard/whiteboard, flat maps, diagrams,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ts the tempo of presentation of idea, topic or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easy to procure and 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ations: lack of ability to use th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ze of vis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ification of visual material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s to miscon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304920" y="6324480"/>
            <a:ext cx="1904760" cy="304920"/>
          </a:xfrm>
          <a:custGeom>
            <a:avLst/>
            <a:gdLst>
              <a:gd name="textAreaLeft" fmla="*/ 19440 w 1904760"/>
              <a:gd name="textAreaRight" fmla="*/ 1885320 w 1904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796" h="21600">
                <a:moveTo>
                  <a:pt x="0" y="0"/>
                </a:moveTo>
                <a:lnTo>
                  <a:pt x="134796" y="0"/>
                </a:lnTo>
                <a:lnTo>
                  <a:pt x="134796" y="21600"/>
                </a:lnTo>
                <a:lnTo>
                  <a:pt x="0" y="21600"/>
                </a:lnTo>
                <a:close/>
              </a:path>
              <a:path fill="lightenLess" w="134796" h="21600">
                <a:moveTo>
                  <a:pt x="0" y="0"/>
                </a:moveTo>
                <a:lnTo>
                  <a:pt x="134796" y="0"/>
                </a:lnTo>
                <a:lnTo>
                  <a:pt x="133396" y="1400"/>
                </a:lnTo>
                <a:lnTo>
                  <a:pt x="1400" y="1400"/>
                </a:lnTo>
                <a:close/>
              </a:path>
              <a:path fill="darken" w="134796" h="21600">
                <a:moveTo>
                  <a:pt x="134796" y="0"/>
                </a:moveTo>
                <a:lnTo>
                  <a:pt x="134796" y="21600"/>
                </a:lnTo>
                <a:lnTo>
                  <a:pt x="133396" y="20200"/>
                </a:lnTo>
                <a:lnTo>
                  <a:pt x="133396" y="1400"/>
                </a:lnTo>
                <a:close/>
              </a:path>
              <a:path fill="darkenLess" w="134796" h="21600">
                <a:moveTo>
                  <a:pt x="134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396" y="20200"/>
                </a:lnTo>
                <a:close/>
              </a:path>
              <a:path fill="lighten" w="134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Cone of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121932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solidFill>
            <a:srgbClr val="62d0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ecordings, Radio, Still Pi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-164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ention – getting, particularly proj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– v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retize verbal abs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ations: size of pictures or illust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nsiveness of projec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erials an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ing difficulties between rad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s and classroom 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6324480"/>
            <a:ext cx="1904760" cy="304920"/>
          </a:xfrm>
          <a:custGeom>
            <a:avLst/>
            <a:gdLst>
              <a:gd name="textAreaLeft" fmla="*/ 19440 w 1904760"/>
              <a:gd name="textAreaRight" fmla="*/ 1885320 w 1904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796" h="21600">
                <a:moveTo>
                  <a:pt x="0" y="0"/>
                </a:moveTo>
                <a:lnTo>
                  <a:pt x="134796" y="0"/>
                </a:lnTo>
                <a:lnTo>
                  <a:pt x="134796" y="21600"/>
                </a:lnTo>
                <a:lnTo>
                  <a:pt x="0" y="21600"/>
                </a:lnTo>
                <a:close/>
              </a:path>
              <a:path fill="lightenLess" w="134796" h="21600">
                <a:moveTo>
                  <a:pt x="0" y="0"/>
                </a:moveTo>
                <a:lnTo>
                  <a:pt x="134796" y="0"/>
                </a:lnTo>
                <a:lnTo>
                  <a:pt x="133396" y="1400"/>
                </a:lnTo>
                <a:lnTo>
                  <a:pt x="1400" y="1400"/>
                </a:lnTo>
                <a:close/>
              </a:path>
              <a:path fill="darken" w="134796" h="21600">
                <a:moveTo>
                  <a:pt x="134796" y="0"/>
                </a:moveTo>
                <a:lnTo>
                  <a:pt x="134796" y="21600"/>
                </a:lnTo>
                <a:lnTo>
                  <a:pt x="133396" y="20200"/>
                </a:lnTo>
                <a:lnTo>
                  <a:pt x="133396" y="1400"/>
                </a:lnTo>
                <a:close/>
              </a:path>
              <a:path fill="darkenLess" w="134796" h="21600">
                <a:moveTo>
                  <a:pt x="134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396" y="20200"/>
                </a:lnTo>
                <a:close/>
              </a:path>
              <a:path fill="lighten" w="134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Cone of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96516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696080" cy="6858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Television and Motion Pi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 solution to time and space constrai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rovides “windows to the world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ffective for presenting movement, continuity of ideas or ev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ubstitute for dangerous direct learning experien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Limitations: expens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viewing proble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iming with classroom lessons 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misconceptions about time, size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d ide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304920" y="6324480"/>
            <a:ext cx="1904760" cy="304920"/>
          </a:xfrm>
          <a:custGeom>
            <a:avLst/>
            <a:gdLst>
              <a:gd name="textAreaLeft" fmla="*/ 19440 w 1904760"/>
              <a:gd name="textAreaRight" fmla="*/ 1885320 w 1904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796" h="21600">
                <a:moveTo>
                  <a:pt x="0" y="0"/>
                </a:moveTo>
                <a:lnTo>
                  <a:pt x="134796" y="0"/>
                </a:lnTo>
                <a:lnTo>
                  <a:pt x="134796" y="21600"/>
                </a:lnTo>
                <a:lnTo>
                  <a:pt x="0" y="21600"/>
                </a:lnTo>
                <a:close/>
              </a:path>
              <a:path fill="lightenLess" w="134796" h="21600">
                <a:moveTo>
                  <a:pt x="0" y="0"/>
                </a:moveTo>
                <a:lnTo>
                  <a:pt x="134796" y="0"/>
                </a:lnTo>
                <a:lnTo>
                  <a:pt x="133396" y="1400"/>
                </a:lnTo>
                <a:lnTo>
                  <a:pt x="1400" y="1400"/>
                </a:lnTo>
                <a:close/>
              </a:path>
              <a:path fill="darken" w="134796" h="21600">
                <a:moveTo>
                  <a:pt x="134796" y="0"/>
                </a:moveTo>
                <a:lnTo>
                  <a:pt x="134796" y="21600"/>
                </a:lnTo>
                <a:lnTo>
                  <a:pt x="133396" y="20200"/>
                </a:lnTo>
                <a:lnTo>
                  <a:pt x="133396" y="1400"/>
                </a:lnTo>
                <a:close/>
              </a:path>
              <a:path fill="darkenLess" w="134796" h="21600">
                <a:moveTo>
                  <a:pt x="134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396" y="20200"/>
                </a:lnTo>
                <a:close/>
              </a:path>
              <a:path fill="lighten" w="134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Cone of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06668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666880" y="304920"/>
            <a:ext cx="4572000" cy="76176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Exhi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 objects or processes otherwise impossible inside the class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sure to new ideas, discoveries, in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s  that may be encounter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 littl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– consu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304920" y="6324480"/>
            <a:ext cx="1904760" cy="304920"/>
          </a:xfrm>
          <a:custGeom>
            <a:avLst/>
            <a:gdLst>
              <a:gd name="textAreaLeft" fmla="*/ 19440 w 1904760"/>
              <a:gd name="textAreaRight" fmla="*/ 1885320 w 1904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796" h="21600">
                <a:moveTo>
                  <a:pt x="0" y="0"/>
                </a:moveTo>
                <a:lnTo>
                  <a:pt x="134796" y="0"/>
                </a:lnTo>
                <a:lnTo>
                  <a:pt x="134796" y="21600"/>
                </a:lnTo>
                <a:lnTo>
                  <a:pt x="0" y="21600"/>
                </a:lnTo>
                <a:close/>
              </a:path>
              <a:path fill="lightenLess" w="134796" h="21600">
                <a:moveTo>
                  <a:pt x="0" y="0"/>
                </a:moveTo>
                <a:lnTo>
                  <a:pt x="134796" y="0"/>
                </a:lnTo>
                <a:lnTo>
                  <a:pt x="133396" y="1400"/>
                </a:lnTo>
                <a:lnTo>
                  <a:pt x="1400" y="1400"/>
                </a:lnTo>
                <a:close/>
              </a:path>
              <a:path fill="darken" w="134796" h="21600">
                <a:moveTo>
                  <a:pt x="134796" y="0"/>
                </a:moveTo>
                <a:lnTo>
                  <a:pt x="134796" y="21600"/>
                </a:lnTo>
                <a:lnTo>
                  <a:pt x="133396" y="20200"/>
                </a:lnTo>
                <a:lnTo>
                  <a:pt x="133396" y="1400"/>
                </a:lnTo>
                <a:close/>
              </a:path>
              <a:path fill="darkenLess" w="134796" h="21600">
                <a:moveTo>
                  <a:pt x="134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396" y="20200"/>
                </a:lnTo>
                <a:close/>
              </a:path>
              <a:path fill="lighten" w="134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Cone of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43000" y="152280"/>
            <a:ext cx="1981080" cy="11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5562360" cy="6094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Demonst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ualized explanation of an important fact or idea or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require nothing more than observation or students may be asked to do what has just been shown how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s or processes might not b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preted or conceived very we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ibility to all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304920" y="6324480"/>
            <a:ext cx="1904760" cy="304920"/>
          </a:xfrm>
          <a:custGeom>
            <a:avLst/>
            <a:gdLst>
              <a:gd name="textAreaLeft" fmla="*/ 19440 w 1904760"/>
              <a:gd name="textAreaRight" fmla="*/ 1885320 w 1904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796" h="21600">
                <a:moveTo>
                  <a:pt x="0" y="0"/>
                </a:moveTo>
                <a:lnTo>
                  <a:pt x="134796" y="0"/>
                </a:lnTo>
                <a:lnTo>
                  <a:pt x="134796" y="21600"/>
                </a:lnTo>
                <a:lnTo>
                  <a:pt x="0" y="21600"/>
                </a:lnTo>
                <a:close/>
              </a:path>
              <a:path fill="lightenLess" w="134796" h="21600">
                <a:moveTo>
                  <a:pt x="0" y="0"/>
                </a:moveTo>
                <a:lnTo>
                  <a:pt x="134796" y="0"/>
                </a:lnTo>
                <a:lnTo>
                  <a:pt x="133396" y="1400"/>
                </a:lnTo>
                <a:lnTo>
                  <a:pt x="1400" y="1400"/>
                </a:lnTo>
                <a:close/>
              </a:path>
              <a:path fill="darken" w="134796" h="21600">
                <a:moveTo>
                  <a:pt x="134796" y="0"/>
                </a:moveTo>
                <a:lnTo>
                  <a:pt x="134796" y="21600"/>
                </a:lnTo>
                <a:lnTo>
                  <a:pt x="133396" y="20200"/>
                </a:lnTo>
                <a:lnTo>
                  <a:pt x="133396" y="1400"/>
                </a:lnTo>
                <a:close/>
              </a:path>
              <a:path fill="darkenLess" w="134796" h="21600">
                <a:moveTo>
                  <a:pt x="134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396" y="20200"/>
                </a:lnTo>
                <a:close/>
              </a:path>
              <a:path fill="lighten" w="134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Cone of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5333760" cy="6858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Field Tr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taken primarily for the purpose of experiencing something that cannot be encountered within the class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ich experience in learning about objects, systems, and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s: time-consu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exposure to danger /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i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dequacy of the community’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304920" y="6324480"/>
            <a:ext cx="1904760" cy="304920"/>
          </a:xfrm>
          <a:custGeom>
            <a:avLst/>
            <a:gdLst>
              <a:gd name="textAreaLeft" fmla="*/ 19440 w 1904760"/>
              <a:gd name="textAreaRight" fmla="*/ 1885320 w 1904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796" h="21600">
                <a:moveTo>
                  <a:pt x="0" y="0"/>
                </a:moveTo>
                <a:lnTo>
                  <a:pt x="134796" y="0"/>
                </a:lnTo>
                <a:lnTo>
                  <a:pt x="134796" y="21600"/>
                </a:lnTo>
                <a:lnTo>
                  <a:pt x="0" y="21600"/>
                </a:lnTo>
                <a:close/>
              </a:path>
              <a:path fill="lightenLess" w="134796" h="21600">
                <a:moveTo>
                  <a:pt x="0" y="0"/>
                </a:moveTo>
                <a:lnTo>
                  <a:pt x="134796" y="0"/>
                </a:lnTo>
                <a:lnTo>
                  <a:pt x="133396" y="1400"/>
                </a:lnTo>
                <a:lnTo>
                  <a:pt x="1400" y="1400"/>
                </a:lnTo>
                <a:close/>
              </a:path>
              <a:path fill="darken" w="134796" h="21600">
                <a:moveTo>
                  <a:pt x="134796" y="0"/>
                </a:moveTo>
                <a:lnTo>
                  <a:pt x="134796" y="21600"/>
                </a:lnTo>
                <a:lnTo>
                  <a:pt x="133396" y="20200"/>
                </a:lnTo>
                <a:lnTo>
                  <a:pt x="133396" y="1400"/>
                </a:lnTo>
                <a:close/>
              </a:path>
              <a:path fill="darkenLess" w="134796" h="21600">
                <a:moveTo>
                  <a:pt x="134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396" y="20200"/>
                </a:lnTo>
                <a:close/>
              </a:path>
              <a:path fill="lighten" w="134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Cone of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057400" y="3808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6T07:01:09Z</dcterms:created>
  <dc:creator>PERALTA</dc:creator>
  <dc:description/>
  <dc:language>en-US</dc:language>
  <cp:lastModifiedBy>riza</cp:lastModifiedBy>
  <dcterms:modified xsi:type="dcterms:W3CDTF">2009-08-09T07:13:11Z</dcterms:modified>
  <cp:revision>54</cp:revision>
  <dc:subject/>
  <dc:title>Slide 1</dc:title>
</cp:coreProperties>
</file>